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9C0C-EF1A-4FFF-B00D-71C841A91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6CF9-D026-4B18-8F6D-5669A99479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A562-972D-4925-948B-2111D80898E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F1E3-2068-43E7-8F49-10EE3167CB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343D-2A5A-4296-8662-A51DFACBC9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FD16-7295-4F7D-9AFC-85C0FF36E3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B450-3EC7-4F81-81A8-3AD8FBFEC7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235D-6F16-4A12-A01C-A464DA964DD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08F8-1012-4334-9E38-90D11CBA291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7545-2B1D-44EC-87A8-F6CB454FF23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1695-5033-424D-8BEE-D4001B31F0C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7053-3930-40A0-B52D-F3715D37B4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E322-ECD2-4F1E-9FF9-C494F0F8B9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8CF4-7204-454A-9B89-0C2035F120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C42B-5C69-45CF-895C-F63ACE8E877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DF20-5F8A-49D5-B894-A74CF269B4E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61B7-8F37-487A-A1A5-21BECAE8AE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2467-EA4B-44C0-82E2-94E17E96A7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A4D4-09D9-45BE-96A1-A4B151828B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7C72-F26B-4A66-8C9E-B48EE623E46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7075-74C6-4273-9F75-A42CC033848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4A05-6ADB-4D1D-BC6A-2382C1DDE0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A1CE-DEF4-42E1-AF4D-0864B172CDE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C15E-0595-4B3D-A342-53B8C421B4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8E3A-A5AB-4278-9089-B95863803B8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5244-478B-4AC5-A908-7BB82602BB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E581-5E63-4D84-95BD-64BBEA9041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52E3-0516-4D2D-A43B-B72AE0EC47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131C-566F-40C0-BC10-09370D578A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DCED-FA7A-4B05-96E6-E4443B2877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A8CD-CA36-4B0C-B267-F6E4E69234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E5F5-7557-4ADE-96EC-FF6033F1D77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DD77-C533-4FE7-AF2F-1BF4F4F9A8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B7C5-9CFF-439C-9C90-CC918DA797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D111-8FA7-4957-8412-13F61DA311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79A49-56A9-4D83-B308-41C9F84E1A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001540F-A5B2-42AB-8BA3-BCC02F956D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DB6643F-19D8-4102-AC99-5B737C0A934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BA25C781-330F-49C9-A7B0-D8786F9EEAA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B9057B84-9B0D-46E3-9FE2-3903292FA9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A6D47BF-0410-4079-9705-7692F436BD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E60C7E5-4D50-44E0-B861-CD58642993F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CE6D4F8-7DD8-4C44-B7B7-63E57823F9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822B000-3A1C-4F22-BBEA-465B626000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7F4D645-D5F0-4686-9468-E88C672039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0E7AE97-737D-4667-8CAC-CC79CF77BA1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3A5704C-A95F-4FA1-B65B-10E83B658B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D6759E1-CA89-46C1-ACD6-281FFE0B71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C20EE46-9AB7-40BF-BBB6-88B49DF370E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CBC722E-63D0-42D8-BFAC-E9EEF48BE9E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D1A523E-4241-4D91-923B-5ED7ADEEE65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6A38F6A3-4BC3-40DF-A719-A6CB730A3D7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F815BD2-67AA-4F06-97F1-2024C7B86DC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57CEAC2-28AB-48B9-AF22-2BB451E78DF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65CE21B-315F-4B3F-A901-95D969C28A4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85A4814-6D62-4F68-BF52-EE2C43C845B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EFE553C-B66B-4F3C-A51B-69BEA9CCB93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26F5880-C2F9-4C51-87D0-D9861AC9F2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26496F1-B49C-4D86-9AA2-43D1455F993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9EE7B7B4-EB1A-4C48-A6EA-9AC1F45FB40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F0FFA11-A099-471F-886B-1CA3C27924A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C58858B-BC90-49BB-BD1F-29DFC45206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58A7F67-3F5F-478B-B6E5-D14FDA57A76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176A5FE-0744-4B37-B94E-85D332DB887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1BDCE3E4-B424-4BD3-A197-DE2E1F1230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2E20C86-8486-4BA7-B695-8EB3D8345EA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6CDB28A-5B52-451F-BEC9-B47E5A05A57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38DFA58-4A14-454F-9AC4-C50F2B584B9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78DE813-0D49-4C8D-B92A-E4F51FCA53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96116F-7F00-4CD1-BDCA-5C2FC3ACB09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41CEAEC-9C78-48E9-A16F-ECBA74F4C4A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343C3FC-B129-40B6-8BE2-271C5C1E465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A449E33E-77B0-466F-90D2-F2CADD07966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4143CF7-67AE-4189-B87D-67729CE5C96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2915791-F780-4B07-BF3E-A50B42DE3E4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AECAFBE-E9E3-40FC-BDD2-9380F3D2A90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36D6F29-72B0-4D78-ACD5-D63A25D209E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A12AE3F-0649-4871-ABE0-FE5A40A453F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2006FE34-3539-45BF-A769-BCA7C051B53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224D644-5D82-40FD-A79C-162C0BBB1F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C04FA2C-F893-421E-828D-6758AF39B99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64691FA-6D66-43A4-AA64-FC3DB8A7DFF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CA12829-1557-45E4-B975-FE3B7F911C4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AB24219-224C-460B-8405-A1015B04F68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B6580BC-1887-48A5-9312-80EAF35BB8B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6E49728-2C7E-42C7-9D64-541B008571F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5B06FA2-7B62-4573-A1EA-50C22708AF3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FA60E21-099C-4C29-A0C7-8CEB1B9E2A8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51EC9C2-F5E2-4A24-8CF4-AD6A1CA9B37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5C6F38F-70F7-4C11-B146-351C57ED788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C14B395-1203-4583-B784-886CA8A52D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A06CF40-4836-4BA2-B0EE-31ED781289C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3718C1A9-A744-46F4-8566-B7B770C48E2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1899FA1-9AA1-442E-AA90-FD0D7CA931F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9E86E4A-9B2B-43B2-87B2-D88CA0F3C1C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B0E10BB-42E3-4618-8796-A892AD10320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3DFF79C-91B0-4E75-80BD-00E48BF3E17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2F277AC-CAC1-424A-8DA8-CE797499DC6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60FC26D-2FEF-4B6D-9FF5-451A818C3E1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0793472-1A0F-4479-8D02-3F4BFC2DD32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F14EA1D-AFA0-46C2-A8A0-B1093FD0546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4EDCA3B4-ED1E-4159-AE2F-8CEB707F19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7AE3494-9CB2-41C7-9935-56B719CB45B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FFF2569-9F4D-4A04-966A-7CDB3D47049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BC361D0-DAAD-4832-AE58-C742528DFA2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DE414BD-1594-4BE2-BD08-4C726D43310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3962DEB-A09D-4904-8756-4491051410F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3A8256E-1037-49BC-9AE1-A4364D9EC7E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9EA1052-55B2-402D-86C8-5ED12844AA2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C5D0F1D-367B-44EE-95FC-D728410E940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78B1C344-B627-42CD-9825-C8C98C7430C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1AD3969B-39CE-4F7E-B2C8-815E554B687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81D5FA6-2E2C-4BFB-A36B-1683409DCD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4EBF901-95FA-4338-9AB3-905FDE1421D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33691F5-9FB4-43A2-BB44-F9F68EEABD4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B4D4029-AB9D-4F72-81CA-DC055643AC5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2C34F61-45E8-4159-9E4B-8FC833B84C7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7536001-A9C5-4CF2-813F-450ABA7FB73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B62455C4-0954-4FE5-BAB6-0F5F5514B23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4DBEB60-0FA4-4506-B39F-4F9073D7A2D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1F3E871-E381-4F31-AAB9-055B4F1F79C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3A8D671-A674-4592-8168-19FDBA731D8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E695BB7-5C62-41C0-8987-852BF26EA51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8187D64-B373-4DF0-B529-E1193FDB62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47971DE-B99C-4681-B1C2-CA632A6C420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2E72142B-2358-4620-B3E6-863411C593E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31692DF-6303-43EC-984C-A0CEA7F7BAE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EDC340A-53A1-455B-B3FA-5F46812677B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0912BD8-F54D-49C2-9735-8FD77055BDE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5C0CA8C-E0A9-43DD-98D1-78AB7A4B8ED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F6DCB22-1B29-4671-A410-0BEC47C4FAA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A78ECC2-5FFE-41C8-8A57-9D301A03A2B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64B0476-3E33-4068-87CB-76B7AC9DE2F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E7860ED-146E-46AA-AF95-F4591E700C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E834826-4CFE-4EC6-A25D-EF355BE2F6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796FDB3-B383-476F-8186-3E116E99EE0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15326B9-1355-477A-A992-F12223E224A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BED2624-9A8A-4A12-B38B-5F3A4756E4B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EE6ABFD-1B98-4827-BB86-3FFB18B3635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DDE231F2-4D51-4E22-B3EC-9F9EFABB5F9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3760680-9BAE-46E4-9B16-AF0CC7803EA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D05FACF-0BD3-4558-BF32-D7D3605092B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756047A-5448-44D0-9737-D48BBB53EC9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6372294-8D89-42DC-B410-6688A1E9AB1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AEFA46F-D8B3-4622-8CD2-80A5859ACF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DFF35BA-A468-4687-9E16-9EE6DCDDE4A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B62D5CC-F0AA-45FA-B6CF-78FD8348712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1ADA8691-DF86-4988-B445-D6200D95695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23C5916D-F969-4E8D-A220-A97BA71827D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091D24D-ABD6-4D0F-A87C-F23C7EF7AB1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291DCA3-15FF-490B-AD06-DF2ADDA8CFC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70EF8F7-391E-4BEF-AD40-2C9420DD601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C387912-70B5-4DFE-A4E1-DEFBECC215A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B294EA1A-FE8D-4463-A5CA-9756BF65FBD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4FED6951-8EBA-4FDE-A8F0-68A56E1561A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2EDA116-8009-482C-B981-D8D8608A22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0CB53CD8-4250-451C-99FA-48FB0BC1F83B}"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D45C52C-C3B6-4624-A965-A3377F4DD31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EC6B31C-F0BC-4363-81B0-E28992249E5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4BDD26AF-08C8-429D-BC0D-D095562108E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0A95BFE-9FD6-4C17-B982-E461A003A4C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91E1AC5-F432-42DC-8472-67EAEE93031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5316255-8028-4D0C-9A70-8CFF848549A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4E581CB-EE5F-4D98-BAEF-1021420C824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50297C6-0044-464F-8918-37812F18A18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4BF89FF3-E19C-4578-9822-E91325F06F6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DF6761B9-61A0-42F5-BA8D-DF8D6618A3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6A3C824E-0519-4A97-8770-A2F7098D349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DDCC8AE-676A-43E0-AF42-D59317EB09F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5B01DFC-7618-4BED-95AA-8880A20AF25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AD63946-AB1E-49F0-9017-469DCC0DF5B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DB26F41-6EA7-497C-8A08-B0451741952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474641D-1316-4D6F-9B48-BD9B04BC77B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BC80F49-B3CA-4D2A-B144-FB0446D6D99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420BC1E-A5F1-4DB6-8E79-CC3F3CFC5E5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093B2EB-F38C-4EDE-833F-056B619C8D2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E3EAE08-1255-4FA2-9E29-DE10AEEF0A6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452295E-DB74-4936-B2A9-2064CD539F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3464A5-205E-4C4D-969B-5B2FDAD703A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C0C1BE0-4C9A-4BF8-8721-D2066457EED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9E68D8D-66D8-4C0A-9A37-123B84166FF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CB5F656-75F0-4DA5-BD11-5A982637539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8B060BC-B5F7-4B2B-A2DF-1AADB9993C8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39669C5-0846-4985-BE56-F25B3487B9C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C7B6768-1C45-4101-A934-C25FB8691D5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022D329-A054-4B66-BD56-157E29E75F9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05736E3E-8A37-4EA4-B012-B73E404E566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A3FF9E22-5399-4A8F-B45C-9F32AA11992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DE2B851-5DAC-4803-9A0F-B56402B184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D4112BE-AC82-4644-BFB5-AAC62F3EE2F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83BD255-D04D-4B16-867C-75C6D2664A7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799CAF1-F83D-4A77-9DB8-2354809F8E4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E8BA7A5-2D9B-4C63-80E7-5E38FC3FB37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14171B9E-0F6D-465C-AA6B-9ED656B9599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14DF9BA-8FD5-4E2A-BE3A-F97F2FDA25C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D63EBE1-794C-489F-95A6-97A406EA8BB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F043E91-5B7D-425B-8136-1AC149F9949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5EACD51-B372-4E80-A1FD-263DF2FD836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A3C6819-F860-47C7-BA2D-8C98980B8EB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285B5F3-BF83-47DB-B8EC-A22053E43C6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13974BC-4A08-4D8C-B1E1-BAF361D44BD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5FADA531-E301-42C4-AADA-164742DD324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C571DE2-6052-4D23-9F01-C703B991694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0414914-8801-460B-8F4E-C39B1E0E870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844C9B7-CD60-46CE-98A5-D45B87007CC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9F7C083-D8AF-4E0E-8358-6FB8F4B6C0C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D1EF263A-AF2E-45D1-A6F0-E8810787F87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8223FB0-5A5C-4527-877A-2DDC6288567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EF36FE6-EF9C-4038-A6F3-61ACF3CEC79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CF45481-53F1-4C53-8E19-30F7ECEE281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51CB554-61B5-459F-939C-6C5D626269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D8D612E-D205-4277-8A8F-417782646EA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CBB26F1-A0D6-4695-9522-4BBC705F4BE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280FC5EF-A988-4F0E-8CAC-F9A18E2E6F5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24C4B9BB-F496-4366-ACF3-573AD7A8792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A04A496-3BF2-4E95-8442-B922646BF74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B92EC04-679D-4FB3-B1EC-AB6FD59E9BA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6EE4C47-EBC7-436B-A747-CE7C50D1986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A9B1762-0B75-4CD7-88CD-7D41292B84C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4966D883-EDAC-4AC0-A937-02F06D8BA47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0C1A21CA-360A-4178-9A74-401BD1E8939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524CA21-A54B-4CB2-AD28-18580E5CAC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A885610-3306-4CDB-8ADC-3F4F234048D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DEFD0D0C-F7EB-4EA3-95E9-67ED81396A3F}"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B575BC88-C439-4D9F-A2BA-29DCDF42AC4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93A0EDAD-5C33-49A9-82B1-7AF698584931}"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D8A1CFD3-80CF-4592-8ACF-3130A147DB28}"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00A201EE-8B7C-45C9-B0BB-53841E1E014C}"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F888A5E-F401-485E-8B51-56DC43D4B1DA}"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246ECC38-980F-47E9-804D-AAA90FDC257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0B6EF5A0-87C0-46A9-B351-EFC217DD61BE}"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21C8B6D7-A56E-4B75-8E91-6E47C3BCFC3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0CFED4DB-413D-4CB9-95D4-C405E81D99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600454C-506D-4EF6-8E09-C975C2E3502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9720EDF-1AEE-4E22-8AFC-F4A92D7B89A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9DC93C4C-FA4F-41B8-AB36-254CB93E340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87C3D5E-C239-4B0B-8273-87DC2459320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66DA9869-38C4-4885-B47D-1573CC9BFD2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AAF7F3D-2ED7-4F4F-87E5-8F9CF81C322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8B514D30-7A97-4E86-803D-CC0CA6250DE5}"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056E24AC-3815-4C87-B54B-BA5C8FCBF40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4C8BCD9A-235A-427D-8769-03B5D507D90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EB08C027-5C2D-4DEB-A85E-9D20837C428A}"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1902739C-927A-4CC1-A907-A5EA6F6EB0F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6F198D9-0DEA-4FA2-BB43-8699685492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327EB6B-66D5-4BE5-957D-5117114F9AA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10BCE8D4-ED18-4A63-B677-8048C3DB1BFD}"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F7545181-9E48-44E6-ACE0-14B2F2E539DC}"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C9D56E5F-A956-4372-9C87-090F50694D3D}"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E2146CF-4CCB-4B5E-9D31-6B508C8EC3AC}"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A83A669-46AC-47CB-A4C5-D6C6A40857B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E136D44-F160-4F7B-A9E2-8E647C85F7C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045201C9-4888-477F-8F84-1527385B46B8}"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8AED9BBB-F181-43C7-89DC-CD3F84DBA248}"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E11EB8C7-1616-4453-8AB6-57FE9B782F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FC38571-480D-4C01-8686-6DA9577A104F}"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DDBDC53F-00F8-41C9-93F4-C90F52B4677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EE5D79FC-0768-490E-92CE-AA5081C148F7}"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01A3356-3166-4097-A62E-937FEF25E93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D693662D-F717-43BB-B504-2258F635729A}"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86D5229A-26F3-4BCF-9613-823B65744A2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384C6DF2-87BC-4483-94FD-8A63662A38B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4F4CAB8F-BFCA-440B-B209-6F7EC32831F3}"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9E632BF-23B3-4E75-8D6C-7CDBDFE60406}"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803A59E-FE02-4652-89D1-D6899DC4C6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C925B84-CCCB-4AD7-8DAF-55ABC324917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0D159BED-6F15-4540-8AA7-51B7557B014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C2D1BBA5-4FCD-4654-AB9C-026BC749AFC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63637123-5D11-47AD-B331-47846B49793A}"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EF00C55E-6F4D-4362-B220-E4136EFC077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A05200D2-F197-4964-B5E7-7045E3F4A73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D4E0B97-E564-4333-8CE1-8623B0149C57}"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6B4B833-3DE9-4890-97FB-554562B783C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D11E20A-D2AD-424D-A3AE-AEE2105222D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97A63BCE-7621-4121-BAF3-74D68003CC8A}"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B35FFE54-36F1-4A38-8ADB-902AF4258D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79D9EF8A-10EC-4381-A958-FCA4D64A6BFE}"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AFD6E667-483C-4314-BB62-31F72FF9B219}"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5A8AB84-CF5A-41C7-8785-C08BC6FE88E4}"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A75E5B6E-B92C-42C0-A214-E7FD6BF4052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32450E8-CA70-4182-A489-220E9643FFEE}"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FC63C64D-804D-4F30-8E2D-478A95DB7EF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033F4E1F-018B-49AE-AA2C-3E4AF3A8B6D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10C23FA1-74FF-4298-87E8-1EFE4E69CB2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C8581BA-A559-49A2-97FE-57535E34CCF7}"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FA9E2A4-D2C2-46DA-8221-3C4AE023FA3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BD2B7460-1D01-453E-A529-EC89F105A3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7A7E9FA8-E8B0-4EBB-AA73-E94174A45612}"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4EEE7592-3D82-405F-B805-A58EC6815BB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D8F8B2C9-575E-4013-B1FE-581144A1A60E}"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1E8D2C2-1D85-498D-8E34-FA4195396C4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253AE18-2EA8-4DFC-97BA-B3436547732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F41DE616-EA9C-4039-A76B-B6550136416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4ED5041E-BE89-4F05-BE20-69935206B041}"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1B1E99F4-4D5B-4299-9362-B2723D0CD37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E3BAA5A9-EEF0-4B98-8043-F1187197665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C78171E-635D-48B3-A2D4-B2541739ADD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AAE67E86-ADC2-4A09-9582-7C0C4BAA6B3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A85EA44-6EAC-4BA0-8951-B4EF0E19043B}"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D4B117BE-185D-4CF7-B144-0CD27AE2FEC8}"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52F5DEDE-4253-450F-8F46-652B78DB7C7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F83D4F60-C1AF-4731-A69B-7CF33167974B}"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96EAA62-819F-45BC-8947-94E1C32A3A6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ADDE3C68-8372-4512-9062-6E17C891B9C3}"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254E2D8C-5C3D-4D93-AA05-1C363C2AB0DD}"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38554DC8-56B2-4686-AFF6-CA4DF4E5650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CA7EDF2C-D845-4B11-9C92-8AEAB5896F4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400A1EED-3BE9-4D18-8024-6C7A80A5149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BA9F32E-B9C6-48EF-9F1C-55C2BE8A227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B86A98C6-D4D9-46B9-B21D-802EC6568E6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7225339-9F4E-4D82-8A23-910F6F7C39EC}"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40F7BAAB-D7A8-41EC-BEC9-84865C9A3F0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0AD393D8-E8D8-4551-8325-E6EB994C02F5}"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1341BC86-C32C-48BC-ADE3-473585AA93C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1888706-4213-4700-A848-72111044ABBC}"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1AA630C1-B1D8-4FAF-99F1-1AADD60FCD2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9707CB48-A222-47BA-BEFD-980AFFBB9F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5C23E00-1E15-4132-B67B-E4D2331B21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29105038-6A85-42E2-86DD-D4FA70C451D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EEE72406-29FA-4812-939C-34F9C78E31FB}"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2E1C5629-B7C8-485A-8C77-09815583604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624DCAF-81AB-4741-B470-25BA3865B7B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4DCBDB78-5C54-4076-9115-681475B4F515}"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A3A1823-07AD-4FC7-95C0-FB977963AE68}"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102536F8-0A2B-41C9-838B-3DEBF36C3C8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59AABF35-BF57-4643-8B7A-98DAEE9F1B2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2842403A-B3F9-4503-94E8-45183604D325}"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1F956B2-A163-4446-949D-9C36A4FBE05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57AC1940-DCF8-4706-8D03-8AF3659BB0B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CAF47F30-F955-4EA8-9A21-1A411AAEFD38}"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501AD081-8B73-4EE4-9257-425358879B6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B0E15995-F1E5-4B8B-AA44-972EA66EFCEB}"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AB686003-CC47-49AB-B4A6-05FA0E5159F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1525E927-6F26-42CD-AC4F-05F72F2AA94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36B4C0B6-4D7A-4558-923A-9A9E4730A0C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39FD01A7-E3BE-4028-8181-F96427DE45F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F6039C25-4046-4BDB-9657-FDF5891C2DD3}"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62E0D2C6-1031-4BF7-89A7-B2D715A2545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339113D4-B63E-4374-9929-8E596379639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8FE40EA6-76A7-49CE-B0A8-D83B5776682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DC83992-FBAC-40AC-9556-1309378FAC35}"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7B1B32AC-1DD0-4630-AEC0-BAA90C73F3A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DD948B0E-FE67-44E3-8E56-C9F9ACD39373}"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25F1E6DC-3E95-48DB-B438-249D3F994C95}"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31F2D7E2-E7F5-49C3-8E73-CFDBBA7DB85B}"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6C708C1-E6EA-4344-80D2-BEAA2B558F64}"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B18A8960-B1A3-4F80-A398-D86E3D6FBC9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8ED2F3D7-05A8-4F46-8348-91AC0449594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B61688F9-BAAC-40E5-8C34-66BD53CB0AA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06683B6C-3161-45D2-B74F-60AED21EBF27}"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4F39967A-9986-4322-B43F-53158A2C24C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B63A3CC-7798-44A3-A93C-0E64CD6F634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74F7CA83-3F29-44BD-BCBC-AE17EC67D2EA}"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9458082E-BDC8-4FCE-9755-02CA2570E0D8}"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EFE5B7FC-1CA6-4639-830A-8A657FE107BE}"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AAE1992A-30A8-48CC-B268-98644301571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75351B9C-2C05-4261-ACA6-E099F8213721}"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389E836-2AC6-4FE9-BDCE-F8DFC8CFED3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1E364FCF-1AB8-4DEB-9813-CC2FC4E7DA71}"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E280A31C-6599-485F-8709-E34EE3674CC0}"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71E0D614-BD3F-4CC1-8DDD-6FCD9F8ED57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729E33C8-7649-470E-AAFD-821BA6610FE6}"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AC8116C4-40A4-40EE-8FFE-0200EEAA56F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450949-EE9C-4EBE-ADDC-002FE03F5C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7A9C8327-5405-4E4A-B0B5-9674A6AC20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797E9C9-EA7E-4BFF-A12E-B1F582078B2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7040C47-868E-43CC-9A91-5ACF11190B5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B080CCD-8D26-430A-9F84-4CD23B330C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2D3BE1A7-AF27-4E62-B155-868F1FEBA59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BA17CA9-DFBF-4ABA-B115-F5F3D43D86E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BCD382A-A578-4DE9-A1F8-B96BBCA34E5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01E7F88-99C4-4FCA-9768-4534FD5EB6A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5046769-1BE7-45E8-A1FB-DCACA9B593C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28ED894-9C05-473C-97AC-3D096A81983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5B05A10-170C-423F-8569-2A75DDC97A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05ECE282-42B0-4979-9AAC-93D6FDC4A19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C2191FDA-B2F3-4F08-A4F1-8161099FB9C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5C4938-8DF2-4E24-B973-109E37EB94A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489D9DA-1A8C-4301-A182-CD4283B6CE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6019F55-7ECE-4050-A432-EE52E4ECAC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6BAC2A7-A010-400B-A74C-F096617D92A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0F31D9EC-82F0-4D53-9746-6E7EC048CCA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0C70B33-4779-4C4E-8AE0-1FC5E16F650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53A989D-DBC5-4686-85BE-01EA070F07E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CF6D048-E752-4329-9ABC-EC7B00AD51D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045767F-4DC8-4052-92A3-0D6301F3E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3E201D5-3F8B-404B-B804-B831CCBB27C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DFAA916-6807-48C5-8106-DBCE9A91B74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F37E5CE-5F3A-438B-B6B7-24EEA723F28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F4AC0F8-D6E8-4E14-8179-DD479889A48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C7B2EFC-B070-4F3C-AC18-9C0B040EBED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6707A5-290B-4138-A52E-19771279828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8875750-1091-4125-9BC4-8EB76FD54E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72E7A69-F4B8-41A7-8808-ABD85BB791C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6698222-2C5B-4AD2-A867-FB33B343D13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CE05D4DA-327A-4E81-87B1-A94AD0ECC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967A19D-8535-4BDD-8CE6-8EEEE3AEEC0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85FB818-2C9C-474B-8CDF-58EEA7FD1F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51ADEFF-B215-46DE-9EAB-BFD3677ED6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A768229-2C7E-476A-92F3-D04BDC84B44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3F98A80-E2F1-44CD-8A7C-EF22FE0F593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358B048-7D40-4B0E-B338-859912BAF63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25EF870-2FEB-4440-8883-ACC6D57FB22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3EF5A04-C671-4C95-9070-77594DD70D3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1F35110-6E28-4284-B3B8-54666EC67A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F0789CB-60A7-4DE6-B018-3464AACC55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F1DF98B-063D-47CD-9911-C8624D5C7E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D6F9-0C3F-4634-A014-1117FD556E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A403-CDDC-4CE6-A25C-649B1B3143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6E09-A3A0-4CB3-B6C9-BC0C93A34D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E2C4-0A02-4D73-AD52-6EC711859B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091F-B683-49FA-9892-483EE23799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6C35-8EF5-43C4-BCD7-22650C5F8F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8CFC-C222-4930-A23D-41BC563786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C261-CBB6-45D2-B82F-FD9432D60A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3072-306F-469F-AFA1-758A91455AC7}"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69D1-B106-4CA4-AD40-DF2C31AA64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3FA4-2859-4BAD-A710-B66F271FF4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AAF2-E4DF-48CF-8061-F3C8DBECA2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3883-44DF-483A-A85F-8E13B45ABA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58C2-1A09-4094-9688-AB669D789A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D67F-5297-4805-8E7D-0977F77B91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1B95-2B52-4347-98C1-2EF24F0D01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319A-5A9D-4ECE-9616-86874E4486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1397-87E2-470F-8713-3400BA9624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C243-1454-4659-8CB4-9AB5630CB4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08AC-997A-4EBD-BD4A-5E7E5178228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A110-00CE-4628-B23C-2D37ABD0BF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FEA2-98D8-40FF-B1AA-64663DBF87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D9CF-90C9-47D3-B5E5-DEBAF5692E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DB7C-6066-47E9-ADFE-FEF85179D6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50F1-B1C7-4338-B238-93C5100FC9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20AF-0101-4875-BDD6-8C654508C0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3B13-727F-49D8-A82F-DDB175F455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21DA-B820-4F17-BAF2-0F0E2EEFC4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DDD5-8BD6-4693-8105-D24A4965CB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AEDE-95AD-4A4F-8210-1EBBC55339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34DB-4C1F-415E-BB23-BF48D6C65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F82D-FD9E-48C1-8682-8C13D79B0D8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6D8F-4960-47AA-BA14-3C480A628D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BF4C-E8D5-4224-A19E-2EB0D11313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48D6-D4B4-45E1-999C-E3629BFBF4B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57BB-AF34-481A-87CC-06E2DE173B9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1C75-1706-4E90-B371-27711DB7E9A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D6D2-D871-42A7-B906-748720F1B93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